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2FC-B4B7-4B3E-91B0-F3488DBC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0D0-F12B-4271-BCE1-9CEEE536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ECE-28FF-4D2C-8184-F1AAD936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973-0D4F-46C4-A558-E8970A65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DE4-2380-4C5E-BB4E-3ACC8762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897-5ECD-4ADD-B5BF-457C22CD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721-964F-45A2-A2EE-55420BE6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399-3220-42C1-9920-371B2293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479-735B-490B-9E34-AC53EC17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484-699F-4904-B3A0-9CE1E43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519-FE9A-458B-BEC2-A031D90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8DD-43F9-49A1-A45C-D1FB5A66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9887-CCEA-49D3-804A-DB2AEB578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hyperlink" Target="file:///tmp/home/.config/libreoffice/4/user/gallery/WHOOSH.WAV" TargetMode="Externa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752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9144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4191480" y="640008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By: Vander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9" descr="flowers 012"/>
          <p:cNvPicPr/>
          <p:nvPr/>
        </p:nvPicPr>
        <p:blipFill>
          <a:blip r:embed="rId1"/>
          <a:srcRect l="6275" t="14118" r="5883" b="22352"/>
          <a:stretch/>
        </p:blipFill>
        <p:spPr>
          <a:xfrm>
            <a:off x="2666880" y="1676520"/>
            <a:ext cx="3962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05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terotroph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04920" y="2590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sms that cannot use the sun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energy directly for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920" y="51814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P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lso known a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enosine triphosphat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685800" y="205740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molecule consists of adenine, a 5-carbon sugar called ribose, and three phosphate group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0" y="5105520"/>
            <a:ext cx="952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gmen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380880" y="2209680"/>
            <a:ext cx="85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nts gather the sun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 energy with light absorbing molecules called 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 Your 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3520" y="5867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o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dolph Marc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-11520" y="3168720"/>
            <a:ext cx="864504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scribed the process by which  electron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erred from one  molecule to another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transport chain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 Your 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609480" y="54100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o wa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n Ingenhousz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0" y="22860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 concluded that aquatic plants produce oxygen bubbles in the light but not in the dark. Plants need sunlight to produce oxy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 Your 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685800" y="5562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o wa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n van Helmo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380880" y="19810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fter careful measurement of a plant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 water intake and mass increase, he concluded that trees gain most of their mass from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 Your 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685800" y="5943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o wa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oseph Priest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088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cientist used a bell jar, a candle, and a plant.  He finds that good air is given of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 Your 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533520" y="5867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o is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lvin Calv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304920" y="2590920"/>
            <a:ext cx="8839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traced the chemical path that carbon follows to form glucos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ght-Dependent Reaction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 the thylakoid membra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609480" y="2209680"/>
            <a:ext cx="7753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otosystem and electron transport chain are located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ght-Dependent Reaction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45720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iochemical pathwa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0"/>
          <p:cNvSpPr/>
          <p:nvPr/>
        </p:nvSpPr>
        <p:spPr>
          <a:xfrm>
            <a:off x="2286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 product of one reaction is consumed in the next reaction this is known as 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0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1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5486400" y="152280"/>
            <a:ext cx="18288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c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4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5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6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7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8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9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0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1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2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3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4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5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6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7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8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9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0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1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2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3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4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5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6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7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8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9">
            <a:hlinkClick r:id="rId14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ght-Dependent Reaction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762120" y="5029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are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TP and NAD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57200" y="243828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nergy-carrying end products of the light-dependent reactions are _____ &amp; 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ght-Dependent Reactions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8600" y="4800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onate electrons to photosystem I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685800" y="2971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participated directly in the light-dependent reactions by 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ght-Dependent Reaction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09480" y="586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photosystem I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533520" y="25146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from light is absorbed by chlorophyll and transferred to electrons, and then these high-energy electrons are passed on to the electron transport chain.  Name the photo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57200" y="5105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ere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 takes place in the stroma (outside the grana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33520" y="2209680"/>
            <a:ext cx="7391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is where the Calvin Cycle takes place in a plant ce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762120" y="4724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x carbon dioxide molecu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57200" y="21337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enters the Calvin Cycle from the atmosphe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85800" y="38862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en the remaining 3-carbon molecules are converted back to a five carbon molecules, which are ready to combine with new carbon dioxide molecules to begin the cycle ag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21760" y="2133720"/>
            <a:ext cx="829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is the Calvin Cycle comple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80880" y="3886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gar and wa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2057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two products of the Calvin Cyc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971800" y="4568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04920" y="548640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TP &amp; NADP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0" y="182880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Calvin Cycle uses ___ &amp; ____ from the light-dependent reactions to produce high-energy sug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80880" y="2590920"/>
            <a:ext cx="8077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the process which plants use to convert the energy of the sun to convert water and carbon dioxide into carbohydrates and oxyge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51055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synthe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5334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isi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ctrum of 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5800" y="21337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lors of sunlight form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3809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ar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lorophyll a and chlorophyll b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04920" y="21337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igments that absorb light energ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5720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the su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838080" y="2590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ltimate source of life-giving energ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04920" y="4876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nitially increases and then levels of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304920" y="2590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light intensity increases, the rate of photosynthesis will do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3808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ar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otroph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762480" y="2438280"/>
            <a:ext cx="744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ganisms that make thei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wn fo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838080" y="5181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form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DP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denosine diphosph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62120" y="205740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result of the third phosphate group being removed from AT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rcRect l="57430" t="0" r="0" b="57271"/>
          <a:stretch/>
        </p:blipFill>
        <p:spPr>
          <a:xfrm>
            <a:off x="762120" y="4267080"/>
            <a:ext cx="2209680" cy="89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2"/>
          <a:srcRect l="0" t="0" r="54457" b="56877"/>
          <a:stretch/>
        </p:blipFill>
        <p:spPr>
          <a:xfrm>
            <a:off x="4724280" y="4191120"/>
            <a:ext cx="2667240" cy="1017360"/>
          </a:xfrm>
          <a:prstGeom prst="rect">
            <a:avLst/>
          </a:prstGeom>
          <a:ln w="0">
            <a:noFill/>
          </a:ln>
        </p:spPr>
      </p:pic>
      <p:sp>
        <p:nvSpPr>
          <p:cNvPr id="143" name="Line 12"/>
          <p:cNvSpPr/>
          <p:nvPr/>
        </p:nvSpPr>
        <p:spPr>
          <a:xfrm>
            <a:off x="3048120" y="4724280"/>
            <a:ext cx="1676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Dustin Zahm</cp:lastModifiedBy>
  <dcterms:modified xsi:type="dcterms:W3CDTF">2014-02-21T18:59:09Z</dcterms:modified>
  <cp:revision>98</cp:revision>
  <dc:subject/>
  <dc:title>Semester 2</dc:title>
</cp:coreProperties>
</file>